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842240"/>
        <c:axId val="67946646"/>
      </c:barChart>
      <c:catAx>
        <c:axId val="648422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946646"/>
        <c:crosses val="autoZero"/>
        <c:auto val="1"/>
        <c:lblAlgn val="ctr"/>
        <c:lblOffset val="100"/>
        <c:noMultiLvlLbl val="0"/>
      </c:catAx>
      <c:valAx>
        <c:axId val="679466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422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3349-7F4F-476F-AA4E-8B2407188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E78A-4FB0-4F83-AD67-03F2D798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4645-1C6E-452C-9B47-3364F891F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B79D-E4F5-4AA9-AAB4-A760A9546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896C-A7AF-4279-9C32-F34EE949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5354-3F33-4F13-BE95-7A7A6B88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D8E0-6397-4F81-8C7B-614BD019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4EFC-0EE0-4D26-96CA-C1AF5511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30B7-BCA8-4D93-A051-D58E2B5C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198B-BF98-4B4F-97A4-201D0EDA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B7DF-D230-42F0-A80B-78795227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1C96-3EF5-4E6E-9E8C-1E06DF3D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98DA0-29B5-4664-8FAA-3A4B66FE43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