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1498"/>
        <c:axId val="4702682"/>
      </c:barChart>
      <c:catAx>
        <c:axId val="1641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2682"/>
        <c:crosses val="autoZero"/>
        <c:auto val="1"/>
        <c:lblAlgn val="ctr"/>
        <c:lblOffset val="100"/>
        <c:noMultiLvlLbl val="0"/>
      </c:catAx>
      <c:valAx>
        <c:axId val="4702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1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90B-E3EC-425F-98FC-16019EB7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CE6-D9D0-4F3A-93B8-EAA5755E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067-BA2F-4A33-B521-C15C4A8D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725-E2C3-47EA-9E76-EAE86BAA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B5E-7A17-4DCA-AA86-00313598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DC7-AFCA-4682-A08F-90A657E6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7E0-A206-4445-8E53-85EE0084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C55-D64C-4FA2-974B-043CC6F3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2A4-CEEF-4715-B625-F0ACAE6B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2DE-E507-4794-BC2B-BA22C0F9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3DE-7694-4CF8-81C8-3AE944ED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718-BAC0-463F-B023-BB996892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45AC5-5F09-4C56-881B-6C925CEE50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