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77922"/>
        <c:axId val="95067000"/>
      </c:barChart>
      <c:catAx>
        <c:axId val="91877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67000"/>
        <c:crosses val="autoZero"/>
        <c:auto val="1"/>
        <c:lblAlgn val="ctr"/>
        <c:lblOffset val="100"/>
        <c:noMultiLvlLbl val="0"/>
      </c:catAx>
      <c:valAx>
        <c:axId val="95067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77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34E-AFA8-4F33-B45D-E6ABF24C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C75-8EB4-4E07-A34D-7F9ED7B5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711-9FB3-40E7-821C-6202D6FC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814-689B-453C-9F8B-FE07BEAE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9EB-6225-4CD9-B188-4F32A0D7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74D-CD0B-4568-BD01-E6485400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6AE-E5BB-4109-8DB0-AF35201F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C3F-CAC4-45F7-A1BD-6C035391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B33-A167-4059-B3F9-55E9EDDE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959-1B08-4ABE-9EF3-283906C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8E7-2687-4B76-A498-BBEB85E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E7F-B6C8-48D1-A7C1-CCC93AC1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30B6A-4061-4CE8-8930-BD9D995A02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