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48261"/>
        <c:axId val="61604557"/>
      </c:barChart>
      <c:catAx>
        <c:axId val="3234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4557"/>
        <c:crosses val="autoZero"/>
        <c:auto val="1"/>
        <c:lblAlgn val="ctr"/>
        <c:lblOffset val="100"/>
        <c:noMultiLvlLbl val="0"/>
      </c:catAx>
      <c:valAx>
        <c:axId val="61604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73B-5B7D-4706-9CF2-0DE9359B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A4F-8B4B-4595-A315-DF99376B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CD5-5757-4882-9B1A-7D6ECACA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FD4-DCBD-429D-B875-E8089048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178-A1DC-4591-81A8-4378EBA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254-A00E-4311-A1A3-5174875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0EC-5A6D-48C5-AF95-1F4ECFE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392-27FD-4B80-8C81-00AD8EA0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E81-E161-46B8-A5F3-BB1A72D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094-1C2E-4CF8-91DF-2CADED8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135-32D4-45C2-81A1-60416D7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CBD-45F8-4013-B5DA-DE93096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DA637-2F1B-4AB8-978F-D67B9225C9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