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37814"/>
        <c:axId val="80919251"/>
      </c:barChart>
      <c:catAx>
        <c:axId val="15137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19251"/>
        <c:crosses val="autoZero"/>
        <c:auto val="1"/>
        <c:lblAlgn val="ctr"/>
        <c:lblOffset val="100"/>
        <c:noMultiLvlLbl val="0"/>
      </c:catAx>
      <c:valAx>
        <c:axId val="80919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37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56A-A397-4C68-BAAF-7F13F4F1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DA7-C48D-47AE-93D4-66D5EB8A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818-6FE1-4345-B78B-B9581F64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F55-CC7F-42E8-8EE9-9ED0AA7A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E64-18CB-47FC-B014-0F200178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DA7-182C-4EBF-BA80-DCFE2B80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A85-5126-4C48-9608-E1CF13A0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056-EAAD-4EF9-939A-6E593935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897-2EDB-4898-B293-C819C398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AFF-9A4F-4D3B-A3C5-008060D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41A-812A-4A2C-B75B-7C2101C6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AD2-1560-446A-85A4-AD6D6BFA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5AE04-E61A-484B-9D06-88769BD6D5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