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80482"/>
        <c:axId val="94980354"/>
      </c:barChart>
      <c:catAx>
        <c:axId val="74880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80354"/>
        <c:crosses val="autoZero"/>
        <c:auto val="1"/>
        <c:lblAlgn val="ctr"/>
        <c:lblOffset val="100"/>
        <c:noMultiLvlLbl val="0"/>
      </c:catAx>
      <c:valAx>
        <c:axId val="94980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80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490-58A7-42C4-AD16-31646093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E65-998A-4A7D-89FE-799E88AB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29C-44EC-433B-8583-4B4223A1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A42-D29E-48F2-9D59-8186B0B2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2B7-AF4E-417D-AD1F-5EC173A7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6B2-223B-4820-AA7B-29DAD3AC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7E6-46CD-41BC-AD44-8D704830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7D6-9AA5-4215-8CC7-B59DF3E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B6A-29CE-4919-97B3-77B34243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559-970F-4C51-AE36-EE419C2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340-B2AF-4BC5-B635-CC0E7F7E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00D-72CE-4D01-AB27-1890EAD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DFC52-9BE3-4FE1-A8F8-81C0173F8B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