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50300"/>
        <c:axId val="77637596"/>
      </c:barChart>
      <c:catAx>
        <c:axId val="79550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37596"/>
        <c:crosses val="autoZero"/>
        <c:auto val="1"/>
        <c:lblAlgn val="ctr"/>
        <c:lblOffset val="100"/>
        <c:noMultiLvlLbl val="0"/>
      </c:catAx>
      <c:valAx>
        <c:axId val="77637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50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B50-FCD2-4794-BDE6-FFEEFE0F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0B6-1147-4371-91D9-77BC8571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3AB-2904-45A6-A42F-18D8F14B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BBC-55B3-4ACC-A764-1039091A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62D-E8EE-435F-ADD1-44F96771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A5C-3D96-44C9-808A-E01BB247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5E68-4D33-4CFF-89B0-B626FD9C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C30-4DCF-41F0-849E-B9BF3838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334-04E5-47E5-B3BA-CB7417B6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D64-4D48-41C4-98ED-F2DF13CC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A6B-5F50-4C76-8954-B4B96085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4CD-C594-4617-B4F0-49A8C31F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ABEE4-D820-4287-8230-2A2608C922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