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9125"/>
        <c:axId val="73369727"/>
      </c:barChart>
      <c:catAx>
        <c:axId val="1019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69727"/>
        <c:crosses val="autoZero"/>
        <c:auto val="1"/>
        <c:lblAlgn val="ctr"/>
        <c:lblOffset val="100"/>
        <c:noMultiLvlLbl val="0"/>
      </c:catAx>
      <c:valAx>
        <c:axId val="73369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9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6E8-3C71-41ED-80FB-95A11543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AD4-0836-4940-94F1-FD9BEF69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0B8-9ABC-4DD1-AF8F-F8E765F2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2B5-B035-4B89-B145-ECBA73B9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014-9C0B-4219-A126-9BD7CFF6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A40-9DF4-4CE0-94A0-6764C4DB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8BB-FF6C-46E4-8445-6CE689B0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E5D-8878-4639-BAE9-F09A8DCD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743-3DB2-42D1-9091-149E579B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049-4082-4F26-B5DC-60885692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4C2-E5D0-4538-98AC-235FE413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3D5-3088-4620-AE8A-05D332E2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922B4-396C-478C-9269-CC570E03C2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