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31304"/>
        <c:axId val="37861256"/>
      </c:barChart>
      <c:catAx>
        <c:axId val="88331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61256"/>
        <c:crosses val="autoZero"/>
        <c:auto val="1"/>
        <c:lblAlgn val="ctr"/>
        <c:lblOffset val="100"/>
        <c:noMultiLvlLbl val="0"/>
      </c:catAx>
      <c:valAx>
        <c:axId val="37861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31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5AE-3C5C-4D23-ACC2-8904F2FA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50A-63E8-47F4-864D-F047D81C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71F-AD87-4B72-8FB5-1777192A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75C-9FE8-48DD-A933-4BF148E2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2C6-C775-47FF-8514-87950F68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3DF-33AF-490D-83A6-B01A88BE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438-E52C-41ED-96F8-01CEDA0A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C18-EB41-46FB-9B1B-0B6F4783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7B5-3013-44F9-84C7-3D87080E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E70-E85C-4E6E-A0AE-4FB24529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5B9-E696-4E08-ACA1-DE5F06A0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38F-1BA6-424D-961E-8A9ABE16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07FCB-4DF6-4984-8B36-82827310ED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