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96615"/>
        <c:axId val="57320527"/>
      </c:barChart>
      <c:catAx>
        <c:axId val="19996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20527"/>
        <c:crosses val="autoZero"/>
        <c:auto val="1"/>
        <c:lblAlgn val="ctr"/>
        <c:lblOffset val="100"/>
        <c:noMultiLvlLbl val="0"/>
      </c:catAx>
      <c:valAx>
        <c:axId val="57320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96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C83-24B1-427F-972F-841664A9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711-AE20-48DD-BBDB-15FA8A42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7D6-4570-4A2A-82D2-88F9EEEB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ACF-8956-420C-B220-30F19A79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D8F-2BDF-4E13-8E3D-89E0E2F7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BC1-05F9-4633-ADF4-FF2FB016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1A4-C67C-492A-891C-A8F880DC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11D-193C-48A7-A434-2BD69148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E21-E87E-4390-BCDC-C298960B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950-E754-4908-9D98-64F2E9C5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A09-B5A1-41B3-B41E-7BE68438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D8A-B0BB-453E-8D49-4289CD4B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A374A-EF1F-47F1-94B2-EF8DEC3168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