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11132"/>
        <c:axId val="23163293"/>
      </c:barChart>
      <c:catAx>
        <c:axId val="28511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63293"/>
        <c:crosses val="autoZero"/>
        <c:auto val="1"/>
        <c:lblAlgn val="ctr"/>
        <c:lblOffset val="100"/>
        <c:noMultiLvlLbl val="0"/>
      </c:catAx>
      <c:valAx>
        <c:axId val="23163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11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BAF-2ACA-423B-99C0-5A8B543F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66B-767A-439A-B632-18E5C740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F5F6-02D5-4988-A9D0-F8495842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ACA4-0A4B-448F-AE0F-650B921A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06DB-908A-4695-A30B-8DB3B1AD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F7B1-3CCB-4847-8AE4-57EB8966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876C-4C5A-4F82-B54D-82516470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1499-DF94-4CD3-AABF-07CCEBBF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BB1-B485-471C-B1EE-2FA319BC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49C-BA28-4D20-AE16-1A4E3408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FB90-1457-4679-9647-E0104E0D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5E75-6012-4810-94E3-066B974F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AF796-4171-4CFF-BFC7-9F777DB359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