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867088"/>
        <c:axId val="35554596"/>
      </c:barChart>
      <c:catAx>
        <c:axId val="268670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54596"/>
        <c:crosses val="autoZero"/>
        <c:auto val="1"/>
        <c:lblAlgn val="ctr"/>
        <c:lblOffset val="100"/>
        <c:noMultiLvlLbl val="0"/>
      </c:catAx>
      <c:valAx>
        <c:axId val="355545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8670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0CE6-020B-440A-B80E-0AA1E5002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D8DE-1860-4DB5-AC5A-9CD4CC93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EAE2-8141-487A-A78D-5F014006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9FD4-CE4B-44DB-8425-EA5DBC245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4EAB-3A5D-43FA-B21E-6502077D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B0F3-2DCB-4A47-8C38-D21910D5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684E-CEA7-47FF-8F42-AF996602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A002-F866-4AE6-A766-8ED00BC5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3831-4A19-4669-8A05-4FAE0EDB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1162-6EE6-4495-884B-6294A249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7BAA-43C0-4293-BA14-5E1CE515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807D-814D-4B3D-A2C4-EF76EA14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5F6776-A18C-4DA4-A9A5-77B1ED2DAB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