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80330"/>
        <c:axId val="88516024"/>
      </c:barChart>
      <c:catAx>
        <c:axId val="59080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16024"/>
        <c:crosses val="autoZero"/>
        <c:auto val="1"/>
        <c:lblAlgn val="ctr"/>
        <c:lblOffset val="100"/>
        <c:noMultiLvlLbl val="0"/>
      </c:catAx>
      <c:valAx>
        <c:axId val="88516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80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AD0-768D-414A-A9E0-9A558B0F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0054-8469-4CFE-B8BD-968544AD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368B-09BB-4B0F-AA7E-C5736A76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B6F-2056-4670-A0A4-9A2CC5C2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6B0A-33FA-489A-86B4-D33ECB2A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97F0-EC43-4D3B-BE68-5A3322FB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E6BF-9D63-47FD-90B2-91A9B33F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FB8-274C-4E29-A201-851F16CC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C08F-C81A-4B9E-B09F-BFB45D08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263E-1F06-45AD-B663-6B54D931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59C-8E8F-4E53-9D09-323E6349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743E-3CFD-4619-BA48-CB9ECF1C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E17D5-7842-4B4A-B8CC-443E7B044A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