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64068"/>
        <c:axId val="25379648"/>
      </c:barChart>
      <c:catAx>
        <c:axId val="21664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79648"/>
        <c:crosses val="autoZero"/>
        <c:auto val="1"/>
        <c:lblAlgn val="ctr"/>
        <c:lblOffset val="100"/>
        <c:noMultiLvlLbl val="0"/>
      </c:catAx>
      <c:valAx>
        <c:axId val="25379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64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2AD-F90D-4D84-A45F-8C54AAE0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239-A4AD-40B8-8ADA-E1E5D87F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F99-8D6E-46A2-8055-A769CC26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0D2-E44C-47C0-93F4-BFC3F00A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EDA-C717-4588-90B5-3FC2F2B8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7A7-BAF6-4507-82D7-51709243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516-82F3-4FB1-8B30-F3169970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275-8BBC-4071-8805-5FAF0EFE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B53-1038-4D19-9B64-CF77DD63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9A8-6105-4499-99C3-1C1194F3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02B-EE6E-4D8B-A879-1E53BDA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E0C-4CD4-43FA-8776-5D2524E1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2C7CB-9F16-4481-9C61-2F9B6B0E88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