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07897"/>
        <c:axId val="94264607"/>
      </c:barChart>
      <c:catAx>
        <c:axId val="422078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64607"/>
        <c:crosses val="autoZero"/>
        <c:auto val="1"/>
        <c:lblAlgn val="ctr"/>
        <c:lblOffset val="100"/>
        <c:noMultiLvlLbl val="0"/>
      </c:catAx>
      <c:valAx>
        <c:axId val="94264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078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555-CC82-47EC-A82B-FB211EED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99F-3472-46C3-B2F3-574CB803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2946-DDCD-465A-81A1-36646E6F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B21-0D2E-49A6-8DB4-CC36688CB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AB7-50A4-43E8-9A2D-0E9B7AC8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562-93BA-469B-855A-BC763460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F6B-A665-4131-9945-FBDACBBE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798E-9E8C-4E9F-9ED8-691E3208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EB7A-9BCF-4466-A1C8-D8538E77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FADE-F61C-4535-9C79-33CED22C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975-B645-489A-B7BE-CC14DE7E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9CA-287F-473B-8F7F-C13C993E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1B57D-0E9E-4FA8-B739-6500591370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