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03353"/>
        <c:axId val="44344513"/>
      </c:barChart>
      <c:catAx>
        <c:axId val="61303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44513"/>
        <c:crosses val="autoZero"/>
        <c:auto val="1"/>
        <c:lblAlgn val="ctr"/>
        <c:lblOffset val="100"/>
        <c:noMultiLvlLbl val="0"/>
      </c:catAx>
      <c:valAx>
        <c:axId val="44344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03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91C-0BC5-4F53-BB9E-5D52FCDB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5B0-C4A4-487A-8A91-A3964155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565-F5D4-4C30-9C16-A6390052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F53-F222-4BBF-A70E-16704FFB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EF3-A9E2-4EAE-A3A3-2576CF8C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524-D645-44C8-91AF-FC1707BB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EF1-B0BC-4204-BF90-78B6016D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94B-B3E9-44CE-88E0-FB2E26DA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B03-C852-4138-9A0C-52571D28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88A-662D-4DBD-9147-4CCEFFF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541-C955-465E-8440-0C1BA3C0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A4B-89AA-4523-A61B-EB383646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9B78B-2AFC-4657-A44D-66CBB17E3D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