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563123"/>
        <c:axId val="77690679"/>
      </c:barChart>
      <c:catAx>
        <c:axId val="555631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690679"/>
        <c:crosses val="autoZero"/>
        <c:auto val="1"/>
        <c:lblAlgn val="ctr"/>
        <c:lblOffset val="100"/>
        <c:noMultiLvlLbl val="0"/>
      </c:catAx>
      <c:valAx>
        <c:axId val="776906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5631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BF29-55C1-4C5A-8A6E-D427C7A31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C3B5-A042-42E9-B261-DD3AE55BA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2444-3290-4A12-AC06-51B0D4079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D222-E078-4F59-B34C-B1C680AD4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5916-6105-48A7-A81D-DA4B8DB80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4CB1-05AA-4FFC-881C-7DF53CEE0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BDBC-DD83-49A7-969C-3B6B71D2C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D645-D361-47A3-9D2A-A31784CAD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4E11-F40E-4AF0-8193-C070C6EA2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3DAA-EA05-4DFF-8E77-FEBB0F798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A931-389F-4702-B646-0B1BA8C9C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7270-63E8-4640-A21B-635C735D7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FDC490-5A8B-4BD3-860C-1C86E968F6C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