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407517"/>
        <c:axId val="82486413"/>
      </c:barChart>
      <c:catAx>
        <c:axId val="934075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486413"/>
        <c:crosses val="autoZero"/>
        <c:auto val="1"/>
        <c:lblAlgn val="ctr"/>
        <c:lblOffset val="100"/>
        <c:noMultiLvlLbl val="0"/>
      </c:catAx>
      <c:valAx>
        <c:axId val="824864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4075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4611-646B-4D37-998F-280147FBC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FBD6-B8B1-4CFF-89F4-1E933E42F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B637-6B66-4B62-A894-D4A2F90E5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D9C5-4F49-4504-887C-5524C2773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093C-D522-4DD9-B108-373C84604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7C5A-6329-4E22-95CB-0EBB9D0EE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B4B4-85AF-4DD2-AC48-1792B1A19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E3F4-557B-4DE2-80A7-6943429B5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DFB3-6EB9-4B07-9CC2-A1E3F161D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3019-8560-4A8C-8299-AC0F9C2A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F83E-A4CD-4FCB-99F6-EF610183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D582-997E-4126-9A70-26DF01DB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3146B8-1231-4811-8E0D-D3A444A158A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