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84344"/>
        <c:axId val="82642447"/>
      </c:barChart>
      <c:catAx>
        <c:axId val="36843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642447"/>
        <c:crosses val="autoZero"/>
        <c:auto val="1"/>
        <c:lblAlgn val="ctr"/>
        <c:lblOffset val="100"/>
        <c:noMultiLvlLbl val="0"/>
      </c:catAx>
      <c:valAx>
        <c:axId val="826424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843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0771-44B2-4D01-9D8A-167A7FE72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51F7-F36E-4163-A693-AE74268C5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94DB-779C-46CD-822C-418F329B6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8B0F-456F-4615-B532-2E60B46BC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30E9-2C6A-47B8-A5D2-185496062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F8CF-B93B-4324-A28D-26589C084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8811-E2ED-4CA7-918E-5D781CD88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B72B-B2DF-467B-ACCC-E6B3BED82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1DB8-61DD-4E43-9FB5-D2E063158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F8A6-110E-45C1-B207-5E2288C70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2E0B-79B3-4E37-B441-385E457A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45F2-E439-4238-9AD3-4F1121238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A86E1D-5396-4E2C-B171-2B1A6529D0B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