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678141"/>
        <c:axId val="55456606"/>
      </c:barChart>
      <c:catAx>
        <c:axId val="77678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56606"/>
        <c:crosses val="autoZero"/>
        <c:auto val="1"/>
        <c:lblAlgn val="ctr"/>
        <c:lblOffset val="100"/>
        <c:noMultiLvlLbl val="0"/>
      </c:catAx>
      <c:valAx>
        <c:axId val="554566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78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CEC9-FE45-4A37-A741-1CEDBA83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BFB-0DC0-4A53-AFF4-5B5A0356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C226-E06C-4976-AE0D-FEBEDFD5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5596-F2E0-4E9C-AA9D-7E26E818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74D-198F-430D-B132-CEA977AF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DC0-09A6-4F96-8F68-6D9C78DA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653-3875-47F6-BA3C-B2DF2CD2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8E12-EBAB-4E2D-BCD8-D17D3C8B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8A23-3E6D-48A1-BB7C-F2E3DF3E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8C36-ECF9-4EBE-9092-3258709D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29C-21E9-4D06-BB0A-5E5C816D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8106-1A46-4F01-861E-B69BE9CF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3A9B1-66E5-4D77-AF94-A277F29135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