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87164"/>
        <c:axId val="79795773"/>
      </c:barChart>
      <c:catAx>
        <c:axId val="23687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95773"/>
        <c:crosses val="autoZero"/>
        <c:auto val="1"/>
        <c:lblAlgn val="ctr"/>
        <c:lblOffset val="100"/>
        <c:noMultiLvlLbl val="0"/>
      </c:catAx>
      <c:valAx>
        <c:axId val="79795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7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552-82FC-4ACA-B1F0-B0D8B8BE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D81-E244-4F51-AFCA-34B3C0FB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4D1-3775-4D97-B73A-F45BCA5E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69E-8A17-4D02-9299-5CC3D76F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236-AD93-480A-B271-AFFC4183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B20-F07D-41BA-96AE-469F03A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762-6F52-4BD2-9492-4F47E225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00A-87A8-4938-BCAC-AE478BA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A48-A24A-409C-AC12-9E130E5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84D-5E54-4727-8C02-D2FCC1F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5B1-0EA9-4540-AD24-B09E677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0E3-2ED2-4DA1-A3EA-BF42A23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8DDFE-8FAF-449E-9146-FF8EC5D78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